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D8DE4-16EB-4D7D-91D0-D2B56E9C6C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E009F-ECC8-4C1F-96AA-341305DB3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F803A-1DF9-45BD-B045-A97A44461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C49F2-3BA8-4F86-A550-299C0B6E3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03F65-0FD0-4434-8BEC-75CC0ABB34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E2E4B-31DD-4A79-9DBD-D267F205F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DC9D5-2494-407B-9AB6-9FD5D3AEC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33635-96F6-4AE6-9038-5910E31248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D5AE0-D179-4E11-9D46-173798D3DB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DF2EC-C0BE-4AA3-BE8F-6AEE6C5EC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BF7B-C70A-46CE-9A7A-D216E759EA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3E09-CAC8-4273-8D17-14A3A1373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41CE1-C256-44D7-9811-5C3BDE5E9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A629A-BC2F-4C21-BBEF-93141EC36A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28EF6-495A-40C2-AC65-1F3F7665A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47F65-0634-4769-8116-6933CEE39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FADA1-26F2-4658-8E0D-9EA94C43E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A527-A967-4B44-9547-63D2F7045B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4ABD-9879-4E69-A1E5-1B578FB803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A9F4-2DB6-4778-BE5B-507D87F98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69D5-26CD-42A7-9EBD-35BAE26F05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FE212-4779-44E3-A9FB-98000AFFD8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3A493-C525-46B0-8AC0-B58224C78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C6CA-6BBF-43E2-855F-E6C1E4C2E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F5B7-0185-4299-BC8D-2E25D31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FDF9-1EF2-489F-B674-97309CCE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51CA-EC42-47F7-862E-16BA08A5E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F9CD-B1CA-4E53-8782-9089D16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B75E-50C5-4F49-9BB4-6D5A72A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E343-87DB-4861-9898-89E7ED3E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9D1F-C290-4E4F-9291-64E0ECBD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9871-6040-4F29-BAAD-1B0CCB75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FCA1-DF74-4A76-9B8D-494DE1B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35CC-BCCE-4FB7-930B-180C790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5A8E-AD0A-49EA-B026-8048849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18840" cy="1325880"/>
            <a:chOff x="210960" y="1679400"/>
            <a:chExt cx="8718840" cy="1325880"/>
          </a:xfrm>
        </p:grpSpPr>
        <p:sp>
          <p:nvSpPr>
            <p:cNvPr id="2" name="Freeform 3"/>
            <p:cNvSpPr/>
            <p:nvPr/>
          </p:nvSpPr>
          <p:spPr>
            <a:xfrm>
              <a:off x="6046920" y="182412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19360" y="169704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28880" y="1708200"/>
              <a:ext cx="5462640" cy="7700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08800" y="1695600"/>
              <a:ext cx="3303360" cy="645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1679400"/>
              <a:ext cx="8718840" cy="13258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AutoShape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714240"/>
            <a:ext cx="8718840" cy="1325520"/>
            <a:chOff x="210960" y="714240"/>
            <a:chExt cx="8718840" cy="1325520"/>
          </a:xfrm>
        </p:grpSpPr>
        <p:sp>
          <p:nvSpPr>
            <p:cNvPr id="9" name="Freeform 10"/>
            <p:cNvSpPr/>
            <p:nvPr/>
          </p:nvSpPr>
          <p:spPr>
            <a:xfrm>
              <a:off x="6046920" y="85896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619360" y="73188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828880" y="743040"/>
              <a:ext cx="5462640" cy="7696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608800" y="730080"/>
              <a:ext cx="3303360" cy="646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210960" y="714240"/>
              <a:ext cx="8718840" cy="1325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7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13189-54A6-4F92-9F36-4F8540686A9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6640" y="877320"/>
            <a:ext cx="721656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ДОУ «Детский сад комбинированного вида № 127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ДОУ «Детский сад комбинированного вида № 127» (отчет от 01.08.2013  № 69) об исполнении предписания комитета образования и науки Курской области от 01.02.2013 № 2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4.01.2013 № 1/1-10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35080" y="8380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Зуе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МКОУ «Зуевская основная общеобразовательная школа» (отчет от 27.08.2013  № 78) об исполнении предписания комитета образования и науки Курской области от 25.02.2013 №  5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7.02.2013 № 1/1-67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35080" y="1384200"/>
            <a:ext cx="72151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Выполз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представленные Управлением образования Администрации Солнцевского района Курской области документы (постановление Администрации Солнцевского района Курской области от 07.06.2013 г. № 311 «О ликвидации муниципального казенного общеобразовательного учреждения «Выползовская основная общеобразовательная школа» Солнцевского района Курской области»; свидетельство о внесении записи в Единый государственный реестр юридических лиц о принятии решения о ликвидации юридического лица от 18.06.2013 г., государственный регистрационный номер 2134614013609, серия 46 № 001771992; свидетельство о внесении записи в Единый государственный реестр юридических лиц о формировании ликвидационной комиссии юридического лица, назначении ликвидатора от 18.06.2013 г., государственный регистрационный номер 2134614013620, серия 46 № 001771993, ОГРН 1034610000171), подтверждающие процесс ликвидации МКОУ «Выползовская основная общеобразовательная школа», и сообщает о снятии с контроля предписания об устранении нарушений от 08.05.2013 г. № 150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50840" y="87732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Больше-Крюк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Больше-Крюковская основная общеобразовательная школа» (отчет от 14.08.2013  № 70) об исполнении предписания комитета образования и науки Курской области от 15.02.2013 № 44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15.01.2013 № 1/1-16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6640" y="96804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Котов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Котовская основная общеобразовательная школа» (отчет от 14.08.2013  № 71) об исполнении предписания комитета образования и науки Курской области от 05.04.2013 № 107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5.02.2013 № 1/1-129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900360"/>
            <a:ext cx="811548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ДОУ «Детский сад № 13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ДОУ «Детский сад № 131»  (отчет от 16.08.2013  № 72) об исполнении предписания комитета образования и науки Курской области от 22.03.2013 № 8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4.03.2013 № 1/1-137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803880"/>
            <a:ext cx="721692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Гимназия №2» г. Курча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ОУ «Гимназия №2» г. Курчатова (отчет от 16.08.2013  № 73) об исполнении предписания комитета образования и науки Курской области от 01.03.2013 № 65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30.01.2013 № 1/1-51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6400" y="724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ДОУ «Детский сад комбинированного вида № 82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ДОУ «Детский сад комбинированного вида № 82»  (отчет от 16.08.2013  № 74) об исполнении предписания комитета образования и науки Курской области от 04.03.2013 № 7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3.02.2013 № 1/1-78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38320" y="106704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Куйбыше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МБОУ «Куйбышевская средняя общеобразовательная школа» (отчет от 20.08.2013  № 75) об исполнении предписания комитета образования и науки Курской области от 31.05.2013 № 188а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3.05.2013 № 1/1-318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38320" y="1075680"/>
            <a:ext cx="721512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ОБОШИ «Лицей-интернат № 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ОБОШИ «Лицей-интернат № 1» (отчет от 21.08.2013  № 76) об исполнении предписания комитета образования и науки Курской области от 08.05.2013 № 14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5.04.2013 № 1/1-248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35080" y="710640"/>
            <a:ext cx="72151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Березовец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Березовецкая основная общеобразовательная школа» (отчет от 26.08.2013 № 77) об исполнении предписания комитета образования и науки Курской области от 01.04.2013 № 10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1.02.2013 № 1/1-113, и сообщает о неисполнении указанного предписания и об открытии внеплановой провер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10-09T06:39:13Z</dcterms:modified>
  <cp:revision>70</cp:revision>
  <dc:subject/>
  <dc:title>Презентация PowerPoint</dc:title>
</cp:coreProperties>
</file>