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305A-8107-4248-AA7A-93B9E99EC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1FC2-6AFB-4E66-90A6-34831DF12B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218C1-842A-464A-A04A-F5DE438E3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CBFFE-3D18-4FDD-BBF7-CB5F1B7411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EA45E-981E-479D-976B-3B637EFDA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CC266-B3E7-43EC-808B-E50242E18C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B854D-136A-41CD-B3E7-509DC20776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B29D-B072-42A2-8409-2864CBBF9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69E9B-8E17-4932-929B-DCB51D157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A36B-4B95-4847-9EB0-FB7B186C7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08738-8D5E-4D8F-B784-8B93621EB3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D8897-0DCE-4B69-99CD-6523625E4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65BA-8ACF-46F1-BEEC-71772012F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6C3D-BE3D-4639-A77E-07A0196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152A-9F50-4C41-A88E-CCE4890F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35DF-5046-4059-BCB3-547C8D308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A3F2-2838-4566-8F8C-79D8D6C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7BBD-6207-4920-B1E0-AF913C4B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CA15-8E28-4239-8039-3DDDAF2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64C5-0F61-48F1-BFF9-561E4CA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2571-A802-42A2-82DF-41DFAABC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0168-1B2F-40D6-BF54-59E4358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7DE7-D45B-41C3-8B7F-54FF5811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0EADE-763F-4114-8400-7D05302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Freeform 3"/>
            <p:cNvSpPr/>
            <p:nvPr/>
          </p:nvSpPr>
          <p:spPr>
            <a:xfrm>
              <a:off x="6046920" y="1824120"/>
              <a:ext cx="2874960" cy="712800"/>
            </a:xfrm>
            <a:prstGeom prst="pie">
              <a:avLst/>
            </a:pr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19360" y="1697040"/>
              <a:ext cx="5541840" cy="847800"/>
            </a:xfrm>
            <a:prstGeom prst="pie">
              <a:avLst/>
            </a:pr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28880" y="1708200"/>
              <a:ext cx="5465880" cy="77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08800" y="1695600"/>
              <a:ext cx="3306600" cy="649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1679400"/>
              <a:ext cx="872208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AutoShape 8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Freeform 10"/>
            <p:cNvSpPr/>
            <p:nvPr/>
          </p:nvSpPr>
          <p:spPr>
            <a:xfrm>
              <a:off x="6046920" y="858960"/>
              <a:ext cx="2874960" cy="712800"/>
            </a:xfrm>
            <a:prstGeom prst="pie">
              <a:avLst/>
            </a:pr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619360" y="731880"/>
              <a:ext cx="5541840" cy="847800"/>
            </a:xfrm>
            <a:prstGeom prst="pie">
              <a:avLst/>
            </a:pr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828880" y="743040"/>
              <a:ext cx="5465880" cy="77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608800" y="730080"/>
              <a:ext cx="3306600" cy="6494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210960" y="714240"/>
              <a:ext cx="8722080" cy="132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528C32-64EC-4614-A00B-CE877924F1E4}" type="slidenum">
              <a:rPr b="0" lang="ru-RU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79640" y="771120"/>
            <a:ext cx="721512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«Поповкинская основная общеобразовательная школа» Дмитрие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МКОУ «Поповкинская основная общеобразовательная школа» Дмитриевского  района Курской области (отчет от 05.03.2013 № 12) об исполнении предписания комитета образования и науки Курской области от 31.10.2012 № 110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21.09.2012 № 1/1-2306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079640" y="950040"/>
            <a:ext cx="72151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БОУ ДОД  «Детская школа искусств г. Льго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ДОД  «Детская школа искусств г. Льгова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28.03.2013 № 21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8.09.2012 № 103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.08.2012 № 1/1-221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079640" y="950040"/>
            <a:ext cx="72151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ОУ ДОД  «Центр детского творчества» г. Дмитри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ДОД  «Центр детского творчества» г. Дмитрие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29.03.2013 № 22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06.11.2012 № 115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5.09.2012 № 1/1-225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328760" y="620640"/>
            <a:ext cx="6715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44720" y="812520"/>
            <a:ext cx="721512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ДОУ «Детский сад № 2 г. Дмитриева» Дмитрие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МКДОУ «Детский сад № 2 г. Дмитриева» Дмитриевского  района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06.03.2013 № 13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6.09.2012 № 100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7.08.2012 № 1/1-219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5240" y="1286280"/>
            <a:ext cx="721512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ДОУ «Детский сад № 5 п. Нива» Дмитрие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МКДОУ «Детский сад № 5 п. Нива» Дмитриевского  района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13.03.2013 № 14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03.10.2012 № 10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3.08.2012 № 1/1-218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4880" y="1002960"/>
            <a:ext cx="811512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Управления образования Администрации Присте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 Управления образования Администрации Пристенского района Курской области (отчет от 14.03.2013 № 15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8.09.2012 № 102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7.08.2012 № 1/1-2230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79640" y="939240"/>
            <a:ext cx="72151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ДОУ «Детский сад № 4 г. Дмитрие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«Детский сад № 4 г. Дмитриева» (отчет от 19.03.2013 № 16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6.09.2012 № 99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7.08.2012 № 1/1-219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79640" y="654120"/>
            <a:ext cx="721512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ОУ ДОД «Хомутовская детско-юношеская спортивная школа» Хомуто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ДОД «Хомутовская детско-юношеская спортивная школа» Хомутовского района Курской области (отчет от 21.03.2013 № 17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8.09.2012 № 101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7.08.2012 № 1/1-2229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9640" y="767880"/>
            <a:ext cx="721512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выездной проверки в отношении МКОУ  «Новопершинская основная общеобразовательная школа» Дмитрие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 «Новопершинская основная общеобразовательная школа» Дмитриевского района Курской области (отчет от 28.03.2013 № 18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31.10.2012 № 109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1.09.2012 № 1/1-230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079640" y="822600"/>
            <a:ext cx="721512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ОУ  «Мантуровская средняя общеобразовательная школа» Мантуров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Мантуровская средняя общеобразовательная школа» Мантуровского района Курской области (отчет от 28.03.2013 № 19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31.10.2012 № 111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3.09.2012 № 1/1-225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79640" y="950040"/>
            <a:ext cx="72151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сполнении пред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по устранению нарушений, выявленных в ходе плановой документарной проверки в отношении МКДОУ  «Детский сад присмотра и оздоровления № 117» г. Ку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образования и науки Курской области рассмотрел отч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 «Детский сад присмотра и оздоровления № 117» г. Курс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чет от 28.03.2013 № 20) об исполнении предпис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а образования и науки Курской области от 26.12.2012 № 129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0.2012 № 1/1-2462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ерина Сапронова</dc:creator>
  <dc:description/>
  <dc:language>en-US</dc:language>
  <cp:lastModifiedBy>Sapronova</cp:lastModifiedBy>
  <dcterms:modified xsi:type="dcterms:W3CDTF">2013-04-08T15:02:12Z</dcterms:modified>
  <cp:revision>40</cp:revision>
  <dc:subject/>
  <dc:title>Презентация PowerPoint</dc:title>
</cp:coreProperties>
</file>