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5E7BC-24AD-42C2-B14C-5436E9659A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30C85-34C5-459B-B368-0FF54B78DF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58057-00B6-4A92-B13D-39839164F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BB51F-39A5-4158-B5A0-A0D8A3646E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D4E3F-18D8-43EA-84CD-402D023A56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AAE02-605E-405D-99AF-E3CB659466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EA876-4B81-446B-BF60-EAF8F3CC17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0C6EC-209E-4B7D-B1D9-585737E4FA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3043B-A568-4423-A715-61D1375BAE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8EAC4-F8C8-4553-B0FE-48443F771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E00D8-87B4-4E1A-8194-8111EC9477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B293D-CBE7-4197-9138-E3A18F5A4F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962BB-78DC-4759-8426-FFB3FA4424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AB967-7395-4D99-9B1D-6380131B4F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A19F9-281A-4BCB-9800-DA037C3556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287B0-418C-46BD-8149-A5D8EF90A7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CA9CC-06C2-4A47-AE5C-D791218BC0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0C9D9-FB83-4F15-A620-701449175C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82884-37E0-4EAE-A7A7-9EA637B913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0B6F2-15A8-45BE-9BFD-2F1A67EC23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BDDEC-186F-45B5-8F51-A00FA741ED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E0B9D-D797-48DB-9E39-8B5A9C096A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5EEAD-77CA-4750-A9AE-567988052E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AC305-E3E3-4E70-BF97-4F39735E98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14513-81D4-4E43-9B6A-A0C06A57A1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BD0C-DA51-49D3-BA65-6CE31BFBB2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DC1F-996E-4F0D-B13A-DE49E5CF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6BD2-F3FA-4DCD-A555-B1A9B7FC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5624-F7EE-4D91-8C34-D3C08A4428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F42D-C957-4D55-8D09-17C06AE9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D1A4-C1C3-4538-8238-10E810F5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33A2-F6C3-4F27-8A99-5631A604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6090-86CA-427F-9D8E-BE82DC5F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6840" y="218880"/>
            <a:ext cx="8224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30FD-CD24-4AEA-ABE9-FA3A7DAA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9306-3A54-4BCB-8101-ACA4D7E6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0287-C772-4CC4-914F-A8D74731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F104-CFF0-43A4-8816-37F250B9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687"/>
              </a:gs>
              <a:gs pos="100000">
                <a:srgbClr val="e75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210960" y="1679400"/>
            <a:ext cx="8718840" cy="1325880"/>
            <a:chOff x="210960" y="1679400"/>
            <a:chExt cx="8718840" cy="1325880"/>
          </a:xfrm>
        </p:grpSpPr>
        <p:sp>
          <p:nvSpPr>
            <p:cNvPr id="2" name="Freeform 3"/>
            <p:cNvSpPr/>
            <p:nvPr/>
          </p:nvSpPr>
          <p:spPr>
            <a:xfrm>
              <a:off x="6046920" y="1824120"/>
              <a:ext cx="2871720" cy="709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2619360" y="1697040"/>
              <a:ext cx="5538960" cy="844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828880" y="1708200"/>
              <a:ext cx="5462640" cy="7700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608800" y="1695600"/>
              <a:ext cx="3303360" cy="6458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10960" y="1679400"/>
              <a:ext cx="8718840" cy="13258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AutoShape 8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687"/>
              </a:gs>
              <a:gs pos="100000">
                <a:srgbClr val="e75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0960" y="714240"/>
            <a:ext cx="8718840" cy="1325520"/>
            <a:chOff x="210960" y="714240"/>
            <a:chExt cx="8718840" cy="1325520"/>
          </a:xfrm>
        </p:grpSpPr>
        <p:sp>
          <p:nvSpPr>
            <p:cNvPr id="9" name="Freeform 10"/>
            <p:cNvSpPr/>
            <p:nvPr/>
          </p:nvSpPr>
          <p:spPr>
            <a:xfrm>
              <a:off x="6046920" y="858960"/>
              <a:ext cx="2871720" cy="709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2619360" y="731880"/>
              <a:ext cx="5538960" cy="844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828880" y="743040"/>
              <a:ext cx="5462640" cy="7696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608800" y="730080"/>
              <a:ext cx="3303360" cy="646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210960" y="714240"/>
              <a:ext cx="8718840" cy="1325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4200" y="6249600"/>
            <a:ext cx="378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3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600" y="6249600"/>
            <a:ext cx="1157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38E8B-936D-4C59-BCD2-A5C5334D66F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28600" y="594000"/>
            <a:ext cx="721692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униципального казенного вечеренего (сменного) общеобразовательного учреждения «Вечерняя (сменная) общеобразовательная школа» города Курчатова Ку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униципального казенного вечеренего (сменного) общеобразовательного учреждения «Вечерняя (сменная) общеобразовательная школа» города Курчатова Курской области (отчет от 04.12.2013 № 122) об исполнении предписания комитета образования и науки Курской области от 31.07.2013 № 279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27.06.2013 № 1/1-468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076400" y="989280"/>
            <a:ext cx="721512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ОО НУ ДПО «Автошкола «Драй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ОО НУ ДПО «Автошкола «Драйв» (отчет от 17.12.2013 № 131) об исполнении предписания комитета образования и науки Курской области от 18.09.2013 № 328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4.09.2013 № 1/1-600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076400" y="72468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Черничен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Черниченская основная общеобразовательная школа» (отчет от 20.12.2013 № 132) об исполнении предписания комитета образования и науки Курской области от 02.09.2013 № 321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3.08.2013 № 1/1-551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076400" y="72468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Революционн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Революционная основная общеобразовательная школа» (отчет от 25.12.2013 № 133) об исполнении предписания комитета образования и науки Курской области от 08.07.2013 № 263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1.06.2013 № 1/1-454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50840" y="1014480"/>
            <a:ext cx="721512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ДОУ «Дмитриевский детский сад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ДОУ «Дмитриевский детский сад» (отчет от 05.12.2013 № 123) об исполнении предписания комитета образования и науки Курской области от 06.06.2013 № 203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6.05.2013 № 1/1-340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6640" y="96804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Николь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Никольская средняя общеобразовательная школа» (отчет от 05.12.2013 № 124) об исполнении предписания комитета образования и науки Курской области от 07.06.2013 № 214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6.05.2013 № 1/1-343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1040400"/>
            <a:ext cx="81154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ДОУ «Детский сад «Ручеек» села Макаров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ДОУ «Детский сад «Ручеек» села Макаровка» (отчет от 06.12.2013 № 125) об исполнении предписания комитета образования и науки Курской области от 31.07.2013 № 280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27.06.2013 № 1/1-467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35080" y="1061640"/>
            <a:ext cx="721692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ОУ «Фатежская средняя общеобразовательная школа № 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ОУ «Фатежская средняя общеобразовательная школа № 1» (отчет от 09.12.2013 № 126) об исполнении предписания комитета образования и науки Курской области от 11.06.2013 № 220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7.05.2013 № 1/1-349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71720" y="1178640"/>
            <a:ext cx="72151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«Кашар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Кашарская средняя общеобразовательная школа» (отчет от 09.12.2013 № 127) об исполнении предписания комитета образования и науки Курской области от 19.06.2013 № 234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15.05.2013 № 1/1-334, и сообщает о снятии с контроля указанного предписани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76400" y="861840"/>
            <a:ext cx="721512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ДОУ «Детский сад № 1 «Ладуш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ДОУ «Детский сад № 1 «Ладушки» (отчет от 16.12.2013 № 128) об исполнении предписания комитета образования и науки Курской области от 17.06.2013 № 226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4.05.2013 № 1/1-374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076400" y="72468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Фентисов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Фентисовская основная общеобразовательная школа» (отчет от 16.12.2013 № 129) об исполнении предписания комитета образования и науки Курской области от 27.06.2013 № 251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3.06.2013 № 1/1-412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076400" y="72468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«Киров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Кировская средняя общеобразовательная школа» (отчет от 16.12.2013 № 130) об исполнении предписания комитета образования и науки Курской области от 24.06.2013 № 245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20.05.2013 № 1/1-357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 Якубович</dc:creator>
  <dc:description/>
  <dc:language>en-US</dc:language>
  <cp:lastModifiedBy>Sapronova</cp:lastModifiedBy>
  <dcterms:modified xsi:type="dcterms:W3CDTF">2013-12-27T08:31:43Z</dcterms:modified>
  <cp:revision>117</cp:revision>
  <dc:subject/>
  <dc:title>Презентация PowerPoint</dc:title>
</cp:coreProperties>
</file>