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FE9B-EC2A-4F3F-AF3D-8DC8A5ED5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4383-394D-4CA7-98D3-5A00B2E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BF30-1B83-4B78-8C70-4D5132F9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0A34-05D9-46B9-A691-4413BF154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91EA-EE93-4002-ADFE-EFF3E97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0272-248B-4CA6-A7FF-BBADDA0C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6F7C-97B8-4D96-817F-4FA3928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73DB-FBDA-4FE4-860C-3B948830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E4CA-B4CE-420A-8FFB-BB4475B3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E3AC-7025-4493-A1E5-4B607289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73E6-FA6F-4955-8A03-416F8EC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6A74-0049-4E1A-8EFB-45356548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722080" cy="1328760"/>
            <a:chOff x="210960" y="1679400"/>
            <a:chExt cx="8722080" cy="1328760"/>
          </a:xfrm>
        </p:grpSpPr>
        <p:sp>
          <p:nvSpPr>
            <p:cNvPr id="2" name=""/>
            <p:cNvSpPr/>
            <p:nvPr/>
          </p:nvSpPr>
          <p:spPr>
            <a:xfrm>
              <a:off x="6046920" y="182412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306600" cy="649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5c01"/>
              </a:gs>
              <a:gs pos="100000">
                <a:srgbClr val="feb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10960" y="714240"/>
            <a:ext cx="8722080" cy="1328760"/>
            <a:chOff x="210960" y="714240"/>
            <a:chExt cx="8722080" cy="1328760"/>
          </a:xfrm>
        </p:grpSpPr>
        <p:sp>
          <p:nvSpPr>
            <p:cNvPr id="9" name=""/>
            <p:cNvSpPr/>
            <p:nvPr/>
          </p:nvSpPr>
          <p:spPr>
            <a:xfrm>
              <a:off x="6046920" y="85896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ff39d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19360" y="73188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ff3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28880" y="74304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08800" y="730080"/>
              <a:ext cx="3306600" cy="6494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0960" y="71424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4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11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60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5DA897E-0A1C-4620-9DCA-C44AE9CA89AE}" type="slidenum"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575f6d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5240" y="1103760"/>
            <a:ext cx="721512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О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редняя общеобразовательная школа №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. Железно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МО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редняя общеобразовательная школа №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. Железногорска (информация от 10. 01. 2013  № 1) об исполнении предписания комитета образования и науки Курской области от 29. 06. 2012 № 69 по устранению нарушений, выявленных в ходе внеплановой документарной проверки, проведенной в соответствии с приказом комитета образования и науки Курской области от 31. 05. 2012 № 1/1-1847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79640" y="1093320"/>
            <a:ext cx="721512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документарной проверки в отношении МКО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редняя общеобразовательная школа №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. Дмитр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МКО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редняя общеобразовательная школа №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. Дмитриева (информация от 17. 01. 2013  № 2) об исполнении предписания комитета образования и науки Курской области от 20. 07. 2012 № 87 по устранению нарушений, выявленных в ходе плановой документарной проверки, проведенной в соответствии с приказом комитета образования и науки Курской области от 18. 05. 2012 № 1/1-1767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57200" y="947880"/>
            <a:ext cx="67150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79640" y="585720"/>
            <a:ext cx="72151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 исполнении предписания комитета образования и науки Курской области по устранению нарушений, выявленных в ходе плановой выездной проверки в отношен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КСОУ Дмитриевская с (к) о школа-интерна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итет образования и науки Курской области рассмотрел отче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КСОУ Дмитриевская с (к) о школа-интерна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(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ация от 25. 01. 2013  № 3) об исполнении предписания комитета образования и науки Курской области от 16. 08. 2012 № 93 по устранению нарушений, выявленных в ходе плановой выездной проверки, проведенной в соответствии с приказом комитета образования и науки Курской области от 19. 06. 2012 № 1/1-2003, и сообщает о снятии с контроля указанного предпис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3-07T08:07:25Z</dcterms:modified>
  <cp:revision>26</cp:revision>
  <dc:subject/>
  <dc:title/>
</cp:coreProperties>
</file>