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E82D4E-517C-46CD-980D-ECEB9401E42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.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2C4980-F8D6-4CA5-98DF-B84F4405E03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Прямоуг.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B02961-B794-4DBC-A125-64A94BC89A8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.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1BA36C-D869-48A5-8269-F0F789355DC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.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A1D406-05A6-4E0C-9454-20930EC57CE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.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25C974-549E-4487-BC79-F344D304F35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.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4AE4D6-4A2B-4344-A778-8BF586BCA4D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.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7161D7-488B-44C8-B5CE-AAF55A8C9C8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.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3248FB-45A8-45A0-AAA8-41A03B62901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1CCB4-0172-4842-A302-02985B1BC9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328E3-75C0-48E7-BD47-A8007E81B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3B1F0-50FC-43D3-B0F2-7C2277777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3425F-04A5-4BDB-BD71-8CC3B32241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B8DD6-0B80-43B4-A579-8AF4515CB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042FF-C570-461F-AAC8-22BB59033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5E4D9-0250-42A8-895E-F178E0C7A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E013F-0A13-4253-B5E7-6D8D67064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723BB-949A-4D22-A43A-5B9C25E11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74761-1474-4B93-9F48-DC48CA16E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7EBF2-7679-4262-B9D0-C09AABECA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7413B-C82B-4A08-8BF4-53F4FA9C0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Автофигура 1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75c01"/>
              </a:gs>
              <a:gs pos="100000">
                <a:srgbClr val="feb68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Группа 2"/>
          <p:cNvGrpSpPr/>
          <p:nvPr/>
        </p:nvGrpSpPr>
        <p:grpSpPr>
          <a:xfrm>
            <a:off x="210960" y="1679400"/>
            <a:ext cx="8722080" cy="1328760"/>
            <a:chOff x="210960" y="1679400"/>
            <a:chExt cx="8722080" cy="1328760"/>
          </a:xfrm>
        </p:grpSpPr>
        <p:sp>
          <p:nvSpPr>
            <p:cNvPr id="2" name="Полилиния 3"/>
            <p:cNvSpPr/>
            <p:nvPr/>
          </p:nvSpPr>
          <p:spPr>
            <a:xfrm>
              <a:off x="6046920" y="1824120"/>
              <a:ext cx="2874960" cy="7128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fff39d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Полилиния 4"/>
            <p:cNvSpPr/>
            <p:nvPr/>
          </p:nvSpPr>
          <p:spPr>
            <a:xfrm>
              <a:off x="2619360" y="1697040"/>
              <a:ext cx="5541840" cy="8478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fff39d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Полилиния 5"/>
            <p:cNvSpPr/>
            <p:nvPr/>
          </p:nvSpPr>
          <p:spPr>
            <a:xfrm>
              <a:off x="2828880" y="1708200"/>
              <a:ext cx="5465880" cy="7729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Полилиния 6"/>
            <p:cNvSpPr/>
            <p:nvPr/>
          </p:nvSpPr>
          <p:spPr>
            <a:xfrm>
              <a:off x="5608800" y="1695600"/>
              <a:ext cx="3306600" cy="6490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Полилиния 7"/>
            <p:cNvSpPr/>
            <p:nvPr/>
          </p:nvSpPr>
          <p:spPr>
            <a:xfrm>
              <a:off x="210960" y="1679400"/>
              <a:ext cx="8722080" cy="13287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Автофигура 8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75c01"/>
              </a:gs>
              <a:gs pos="100000">
                <a:srgbClr val="feb68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Группа 9"/>
          <p:cNvGrpSpPr/>
          <p:nvPr/>
        </p:nvGrpSpPr>
        <p:grpSpPr>
          <a:xfrm>
            <a:off x="210960" y="714240"/>
            <a:ext cx="8722080" cy="1328760"/>
            <a:chOff x="210960" y="714240"/>
            <a:chExt cx="8722080" cy="1328760"/>
          </a:xfrm>
        </p:grpSpPr>
        <p:sp>
          <p:nvSpPr>
            <p:cNvPr id="9" name="Полилиния 10"/>
            <p:cNvSpPr/>
            <p:nvPr/>
          </p:nvSpPr>
          <p:spPr>
            <a:xfrm>
              <a:off x="6046920" y="858960"/>
              <a:ext cx="2874960" cy="7128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fff39d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Полилиния 11"/>
            <p:cNvSpPr/>
            <p:nvPr/>
          </p:nvSpPr>
          <p:spPr>
            <a:xfrm>
              <a:off x="2619360" y="731880"/>
              <a:ext cx="5541840" cy="8478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fff39d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Полилиния 12"/>
            <p:cNvSpPr/>
            <p:nvPr/>
          </p:nvSpPr>
          <p:spPr>
            <a:xfrm>
              <a:off x="2828880" y="743040"/>
              <a:ext cx="5465880" cy="7729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Полилиния 13"/>
            <p:cNvSpPr/>
            <p:nvPr/>
          </p:nvSpPr>
          <p:spPr>
            <a:xfrm>
              <a:off x="5608800" y="730080"/>
              <a:ext cx="3306600" cy="64944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Полилиния 14"/>
            <p:cNvSpPr/>
            <p:nvPr/>
          </p:nvSpPr>
          <p:spPr>
            <a:xfrm>
              <a:off x="210960" y="714240"/>
              <a:ext cx="8722080" cy="13287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" name="PlaceHolder 1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4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11.3.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Поле 16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ldNum" idx="2"/>
          </p:nvPr>
        </p:nvSpPr>
        <p:spPr>
          <a:xfrm>
            <a:off x="3990960" y="6249960"/>
            <a:ext cx="11606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800" spc="-1" strike="noStrike">
                <a:solidFill>
                  <a:srgbClr val="000000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2590F9A5-1740-4575-90AB-10CCD9F2F8B9}" type="slidenum">
              <a:rPr b="0" lang="ru-RU" sz="1800" spc="-1" strike="noStrike">
                <a:solidFill>
                  <a:srgbClr val="000000"/>
                </a:solidFill>
                <a:latin typeface="Candar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75f6d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75f6d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75f6d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75f6d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75f6d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75f6d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75f6d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. 1"/>
          <p:cNvSpPr/>
          <p:nvPr/>
        </p:nvSpPr>
        <p:spPr>
          <a:xfrm>
            <a:off x="1357200" y="947880"/>
            <a:ext cx="6715080" cy="39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. 2"/>
          <p:cNvSpPr/>
          <p:nvPr/>
        </p:nvSpPr>
        <p:spPr>
          <a:xfrm>
            <a:off x="1106640" y="827640"/>
            <a:ext cx="721656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исполнении предписания комитета образования и науки Курской области по устранению нарушений, выявленных в ходе плановой выездной проверки в отношении муниципального бюджетного дошкольного образовательного учреждения «Детский сад комбинированного вида № 17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итет образования и науки Курской области рассмотрел отчет муниципального бюджетного дошкольного образовательного учреждения «Детский сад комбинированного вида № 17» (отчет от 06.05.2013 № 34) об исполнении предписания комитета образования и науки Курской области от 14.02.2013 № 32 по устранению нарушений, выявленных в ходе плановой выездной проверки, проведенной в соответствии с приказом комитета образования и науки Курской области от 22.01.2013 № 1/1-33, и сообщает о снятии с контроля указанного предпис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. 1"/>
          <p:cNvSpPr/>
          <p:nvPr/>
        </p:nvSpPr>
        <p:spPr>
          <a:xfrm>
            <a:off x="1357200" y="947880"/>
            <a:ext cx="6715080" cy="39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. 2"/>
          <p:cNvSpPr/>
          <p:nvPr/>
        </p:nvSpPr>
        <p:spPr>
          <a:xfrm>
            <a:off x="1050840" y="572760"/>
            <a:ext cx="7215120" cy="46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исполнении предписания комитета образования и науки Курской области по устранению нарушений, выявленных в ходе плановой выездной проверки в отношении Областного бюджетного образовательного учреждения дополнительного образования детей «Курская областная специализированная детско-юношеская спортивная школа олимпийского резерва «Урожай» им. Н.Я. Яковлев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итет образования и науки Курской области рассмотрел отчет  ОБОУ ДОД «Курская областная специализированная детско-юношеская спортивная школа олимпийского резерва «Урожай» им. Н.Я. Яковлева»  (отчет от 08.05.2013 № 35) об исполнении предписания комитета образования и науки Курской области от 08.11.2013 № 116 по устранению нарушений, выявленных в ходе плановой выездной проверки, проведенной в соответствии с приказом комитета образования и науки Курской области от 04.10.2012 № 1/1-2343, и сообщает о неисполнении указанного предписания и об открытии внеплановой провер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. 1"/>
          <p:cNvSpPr/>
          <p:nvPr/>
        </p:nvSpPr>
        <p:spPr>
          <a:xfrm>
            <a:off x="1357200" y="947880"/>
            <a:ext cx="6715080" cy="39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. 2"/>
          <p:cNvSpPr/>
          <p:nvPr/>
        </p:nvSpPr>
        <p:spPr>
          <a:xfrm>
            <a:off x="1106640" y="1337400"/>
            <a:ext cx="7215120" cy="31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исполнении предписания комитета образования и науки Курской области по устранению нарушений, выявленных в ходе плановой документарной проверки в отношении МДБОУ «Рыбино-Будский детский сад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итет образования и науки Курской области рассмотрел отчет  МДБОУ «Рыбино-Будский детский сад» (отчет от 15.05.2013 № 36) об исполнении предписания комитета образования и науки Курской области от 05.12.2012 № 122 по устранению нарушений, выявленных в ходе плановой документарной проверки, проведенной в соответствии с приказом комитета образования и науки Курской области от 16.10.2012 № 1/1-2434, и сообщает о снятии с контроля указанного предпис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. 1"/>
          <p:cNvSpPr/>
          <p:nvPr/>
        </p:nvSpPr>
        <p:spPr>
          <a:xfrm>
            <a:off x="1386000" y="1827360"/>
            <a:ext cx="6715080" cy="39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. 2"/>
          <p:cNvSpPr/>
          <p:nvPr/>
        </p:nvSpPr>
        <p:spPr>
          <a:xfrm>
            <a:off x="685800" y="968400"/>
            <a:ext cx="8115480" cy="36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исполнении предписания комитета образования и науки Курской области по устранению нарушений, выявленных в ходе плановой документарной проверки в отношении МБДОУ «Селекционный детский сад» Льговского района Кур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итет образования и науки Курской области рассмотрел отчет  МБДОУ «Селекционный детский сад» Льговского района Курской области (отчет от 17.05.2013 № 37) об исполнении предписания комитета образования и науки Курской области от 29.12.2012 № 139 по устранению нарушений, выявленных в ходе плановой документарной проверки, проведенной в соответствии с приказом комитета образования и науки Курской области от 26.11.2012 № 1/1-2556, и сообщает о снятии с контроля указанного предпис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. 1"/>
          <p:cNvSpPr/>
          <p:nvPr/>
        </p:nvSpPr>
        <p:spPr>
          <a:xfrm>
            <a:off x="1386000" y="1827360"/>
            <a:ext cx="6715080" cy="39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. 2"/>
          <p:cNvSpPr/>
          <p:nvPr/>
        </p:nvSpPr>
        <p:spPr>
          <a:xfrm>
            <a:off x="1135080" y="871920"/>
            <a:ext cx="7216920" cy="39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исполнении предписания комитета образования и науки Курской области по устранению нарушений, выявленных в ходе плановой документарной проверки в отношении МКОУ ДОД «Хомутовский Дом детского творчеств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итет образования и науки Курской области рассмотрел отчет  МКОУ ДОД «Хомутовский Дом детского творчества» (отчет от 17.05.2013 № 38) об исполнении предписания комитета образования и науки Курской области от 20.12.2012 № 125 по устранению нарушений, выявленных в ходе плановой документарной проверки, проведенной в соответствии с приказом комитета образования и науки Курской области от 22.10.2012 № 1/1-2450, и сообщает о снятии с контроля указанного предпис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. 1"/>
          <p:cNvSpPr/>
          <p:nvPr/>
        </p:nvSpPr>
        <p:spPr>
          <a:xfrm>
            <a:off x="1386000" y="1827360"/>
            <a:ext cx="6715080" cy="39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. 2"/>
          <p:cNvSpPr/>
          <p:nvPr/>
        </p:nvSpPr>
        <p:spPr>
          <a:xfrm>
            <a:off x="755640" y="785520"/>
            <a:ext cx="753912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исполнении предписания комитета образования и науки Курской области по устранению нарушений, выявленных в ходе плановой выездной проверки в отношении МКОУ «Косторнянская основная общеобразовательная школ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итет образования и науки Курской области рассмотрел отчет  МКОУ «Косторнянская основная общеобразовательная школа» (отчет от 31.05.2013 № 39) об исполнении предписания комитета образования и науки Курской области от 28.12.2012 № 133 по устранению нарушений, выявленных в ходе плановой выездной проверки, проведенной в соответствии с приказом комитета образования и науки Курской области от 26.11.2012 № 1/1-2554, и сообщает о снятии с контроля указанного предпис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. 1"/>
          <p:cNvSpPr/>
          <p:nvPr/>
        </p:nvSpPr>
        <p:spPr>
          <a:xfrm>
            <a:off x="1386000" y="1827360"/>
            <a:ext cx="6715080" cy="39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. 2"/>
          <p:cNvSpPr/>
          <p:nvPr/>
        </p:nvSpPr>
        <p:spPr>
          <a:xfrm>
            <a:off x="1138320" y="657000"/>
            <a:ext cx="721512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исполнении предписания комитета образования и науки Курской области по устранению нарушений, выявленных в ходе плановой выездной проверки в отношении МКОУ «Сторожевская основная общеобразовательная ш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итет образования и науки Курской области рассмотрел отчет  МКОУ «Сторожевская основная общеобразовательная школа» (отчет от 31.05.2013 № 40) об исполнении предписания комитета образования и науки Курской области от 28.12.2012 № 132 по устранению нарушений, выявленных в ходе плановой выездной проверки, проведенной в соответствии с приказом комитета образования и науки Курской области от 26.11.2012 № 1/1-2555, и сообщает о снятии с контроля указанного предпис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. 1"/>
          <p:cNvSpPr/>
          <p:nvPr/>
        </p:nvSpPr>
        <p:spPr>
          <a:xfrm>
            <a:off x="1079640" y="462960"/>
            <a:ext cx="7215120" cy="44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исполнении предписания комитета образования и науки Курской области по устранению нарушений, выявленных в ходе плановой выездной проверки в отношении МКОУ «Розгребельская средняя общеобразовательная школ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итет образования и науки Курской области рассмотрел отчет  МКОУ «Розгребельская средняя общеобразовательная школа» (отчет от 31.05.2013 № 41) об исполнении предписания комитета образования и науки Курской области от 25.12.2012 № 128 по устранению нарушений, выявленных в ходе плановой выездной проверки, проведенной в соответствии с приказом комитета образования и науки Курской области от 26.11.2012 № 1/1-2324, и сообщает о снятии с контроля указанного предпис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Роман Якубович</dc:creator>
  <dc:description/>
  <dc:language>en-US</dc:language>
  <cp:lastModifiedBy>Sapronova</cp:lastModifiedBy>
  <dcterms:modified xsi:type="dcterms:W3CDTF">2013-07-01T07:28:22Z</dcterms:modified>
  <cp:revision>40</cp:revision>
  <dc:subject/>
  <dc:title>Презентация PowerPoint</dc:title>
</cp:coreProperties>
</file>