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3DD7D-D091-46D8-9F1A-786EA5214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09D62-D209-4A2C-BBD2-F1FDBA8B3C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9848C-18F2-4D0F-AB8C-F59227495D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0A0BC-5170-4939-B039-6109457986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713CC-7091-4011-8E99-195EAA6B4B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90732-0B6A-4068-B613-4358B3FF8F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BA6DC-C1C3-448A-A574-C3B11A0B68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1EC90-2C34-4661-A636-44F1AB7CF1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86CA4-4554-4FF1-A59A-91B73B532D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D951F-C450-4ACD-8305-84F82655EB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52FC8-7BF4-4250-B91A-1E034D4B4C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FF20D-889B-4F5B-B4A2-31BCDE8E5E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E85B4-1220-456A-BE62-CA270EFAD3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DC34-AB25-4EFB-90A3-FAD8029B36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6F0B-6FFC-4241-84E6-BEED319D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08CC-8CC1-40D1-8DD0-F93F1C10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B2FB-6F1E-4EE2-B6E6-B4AB9A45FF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5F00-EBF0-4189-B226-B87CB7BF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E768-8D1E-48DA-95F2-842D3FF9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7A2D-C526-48E6-BF89-56DDBC87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82A5-9C22-4A31-B960-B346B053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5A40-B2EA-4AE5-85E8-A09F376D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E8D4-204F-4C05-8310-3A70A1DD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8824-504C-4046-A242-01D271A5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E54B-1924-437A-9D6D-FE5CFAA8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Автофигура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Группа 2"/>
          <p:cNvGrpSpPr/>
          <p:nvPr/>
        </p:nvGrpSpPr>
        <p:grpSpPr>
          <a:xfrm>
            <a:off x="210960" y="1679400"/>
            <a:ext cx="8722080" cy="1328760"/>
            <a:chOff x="210960" y="1679400"/>
            <a:chExt cx="8722080" cy="1328760"/>
          </a:xfrm>
        </p:grpSpPr>
        <p:sp>
          <p:nvSpPr>
            <p:cNvPr id="2" name="Полилиния 3"/>
            <p:cNvSpPr/>
            <p:nvPr/>
          </p:nvSpPr>
          <p:spPr>
            <a:xfrm>
              <a:off x="6046920" y="1824120"/>
              <a:ext cx="287496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олилиния 4"/>
            <p:cNvSpPr/>
            <p:nvPr/>
          </p:nvSpPr>
          <p:spPr>
            <a:xfrm>
              <a:off x="2619360" y="1697040"/>
              <a:ext cx="5541840" cy="84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олилиния 5"/>
            <p:cNvSpPr/>
            <p:nvPr/>
          </p:nvSpPr>
          <p:spPr>
            <a:xfrm>
              <a:off x="2828880" y="1708200"/>
              <a:ext cx="5465880" cy="772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олилиния 6"/>
            <p:cNvSpPr/>
            <p:nvPr/>
          </p:nvSpPr>
          <p:spPr>
            <a:xfrm>
              <a:off x="5608800" y="1695600"/>
              <a:ext cx="3306600" cy="649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олилиния 7"/>
            <p:cNvSpPr/>
            <p:nvPr/>
          </p:nvSpPr>
          <p:spPr>
            <a:xfrm>
              <a:off x="210960" y="167940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Автофигура 8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Группа 9"/>
          <p:cNvGrpSpPr/>
          <p:nvPr/>
        </p:nvGrpSpPr>
        <p:grpSpPr>
          <a:xfrm>
            <a:off x="210960" y="714240"/>
            <a:ext cx="8722080" cy="1328760"/>
            <a:chOff x="210960" y="714240"/>
            <a:chExt cx="8722080" cy="1328760"/>
          </a:xfrm>
        </p:grpSpPr>
        <p:sp>
          <p:nvSpPr>
            <p:cNvPr id="9" name="Полилиния 10"/>
            <p:cNvSpPr/>
            <p:nvPr/>
          </p:nvSpPr>
          <p:spPr>
            <a:xfrm>
              <a:off x="6046920" y="858960"/>
              <a:ext cx="287496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олилиния 11"/>
            <p:cNvSpPr/>
            <p:nvPr/>
          </p:nvSpPr>
          <p:spPr>
            <a:xfrm>
              <a:off x="2619360" y="731880"/>
              <a:ext cx="5541840" cy="84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олилиния 12"/>
            <p:cNvSpPr/>
            <p:nvPr/>
          </p:nvSpPr>
          <p:spPr>
            <a:xfrm>
              <a:off x="2828880" y="743040"/>
              <a:ext cx="5465880" cy="772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Полилиния 13"/>
            <p:cNvSpPr/>
            <p:nvPr/>
          </p:nvSpPr>
          <p:spPr>
            <a:xfrm>
              <a:off x="5608800" y="730080"/>
              <a:ext cx="3306600" cy="6494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Полилиния 14"/>
            <p:cNvSpPr/>
            <p:nvPr/>
          </p:nvSpPr>
          <p:spPr>
            <a:xfrm>
              <a:off x="210960" y="71424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4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1.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Поле 16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60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0373878-1E1E-4AB2-B3DB-FB94DA0E8BFC}" type="slidenum">
              <a:rPr b="0" lang="ru-RU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.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. 2"/>
          <p:cNvSpPr/>
          <p:nvPr/>
        </p:nvSpPr>
        <p:spPr>
          <a:xfrm>
            <a:off x="1106640" y="1209960"/>
            <a:ext cx="72165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ДОУ «Детский сад посёлка Прист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ДОУ «Детский сад посёлка Пристень» (отчет от 07.06.2013 № 42) об исполнении предписания комитета образования и науки Курской области от 04.03.2013 № 70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30.01.2013 № 1/1-49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. 1"/>
          <p:cNvSpPr/>
          <p:nvPr/>
        </p:nvSpPr>
        <p:spPr>
          <a:xfrm>
            <a:off x="1058760" y="929160"/>
            <a:ext cx="72151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ОУ «Волжан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«Волжанская средняя общеобразовательная школа» (отчет от 24.06.2013 № 51) об исполнении предписания комитета образования и науки Курской области от 12.03.2013 № 77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30.01.2013 № 1/1-48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. 1"/>
          <p:cNvSpPr/>
          <p:nvPr/>
        </p:nvSpPr>
        <p:spPr>
          <a:xfrm>
            <a:off x="1079640" y="840960"/>
            <a:ext cx="72151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Любостан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«Любостанская средняя общеобразовательная школа» (отчет от 24.06.2013 № 52) об исполнении предписания комитета образования и науки Курской области от 25.12.2012 № 127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6.11.2012 № 1/1-2525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. 1"/>
          <p:cNvSpPr/>
          <p:nvPr/>
        </p:nvSpPr>
        <p:spPr>
          <a:xfrm>
            <a:off x="1079640" y="586080"/>
            <a:ext cx="721512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униципального казенного дошкольного образовательного учреждения «Беловский детский сад №2» Беловского 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униципального казенного дошкольного образовательного учреждения «Беловский детский сад № 2» Беловского  района Курской области (отчет от 01.07.2013 № 53) об исполнении предписания комитета образования и науки Курской области от 25.02.2012 № 57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15.01.2013 № 1/1-17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.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. 2"/>
          <p:cNvSpPr/>
          <p:nvPr/>
        </p:nvSpPr>
        <p:spPr>
          <a:xfrm>
            <a:off x="1050840" y="1082880"/>
            <a:ext cx="7215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Большеохочевского филиала МКОУ «Охочев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Большеохочевского филиала МКОУ «Охочевская средняя общеобразовательная школа» (отчет от 10.06.2013 № 43) об исполнении предписания комитета образования и науки Курской области от 28.12.2012 № 138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6.11.2012 № 1/1-2551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.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. 2"/>
          <p:cNvSpPr/>
          <p:nvPr/>
        </p:nvSpPr>
        <p:spPr>
          <a:xfrm>
            <a:off x="1106640" y="1045080"/>
            <a:ext cx="72151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Гремяченского филиала МКОУ «Охочев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Гремяченского филиала МКОУ «Охочевская средняя общеобразовательная школа» (отчет от 10.06.2013 № 44) об исполнении предписания комитета образования и науки Курской области от 28.12.2012 № 137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6.11.2012 № 1/1-2552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. 2"/>
          <p:cNvSpPr/>
          <p:nvPr/>
        </p:nvSpPr>
        <p:spPr>
          <a:xfrm>
            <a:off x="685800" y="968400"/>
            <a:ext cx="81154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ОБОУ НПО «ПУ № 24» г. Рыльск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ОБОУ НПО «ПУ № 24» г. Рыльска Курской области (отчет от 10.06.2013 № 45) об исполнении предписания комитета образования и науки Курской области от 26.12.2012 № 130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09.11.2012 № 1/1-2505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. 2"/>
          <p:cNvSpPr/>
          <p:nvPr/>
        </p:nvSpPr>
        <p:spPr>
          <a:xfrm>
            <a:off x="1135080" y="1126800"/>
            <a:ext cx="721692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ОУ «Саморяд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«Саморядовская СОШ» (отчет от 14.06.2013 № 46) об исполнении предписания комитета образования и науки Курской области от 28.12.2012 № 135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06.11.2012 № 1/1-2492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. 2"/>
          <p:cNvSpPr/>
          <p:nvPr/>
        </p:nvSpPr>
        <p:spPr>
          <a:xfrm>
            <a:off x="1079640" y="1211400"/>
            <a:ext cx="7215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Коневс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«Коневская основная общеобразовательная школа» (отчет от 17.06.2013 № 47) об исполнении предписания комитета образования и науки Курской области от 05.03.2013 № 73а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3.02.2013 № 1/1-79, и сообщает о снятии с контроля указанного пред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. 2"/>
          <p:cNvSpPr/>
          <p:nvPr/>
        </p:nvSpPr>
        <p:spPr>
          <a:xfrm>
            <a:off x="1138320" y="657000"/>
            <a:ext cx="72151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Дмитриевс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«Дмитриевская основная общеобразовательная школа» (отчет от 17.06.2013 № 48) об исполнении предписания комитета образования и науки Курской области от 14.02.2013 № 33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2.01.2013 № 1/1-32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. 1"/>
          <p:cNvSpPr/>
          <p:nvPr/>
        </p:nvSpPr>
        <p:spPr>
          <a:xfrm>
            <a:off x="1079640" y="855000"/>
            <a:ext cx="7215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внеплановой выездной проверки в отношении МКОУ «Званн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«Званновская СОШ» (отчет от 20.06.2013 № 49) об исполнении предписания комитета образования и науки Курской области от 28.12.2012 № 134 по устранению нарушений, выявленных в ходе внеплановой выездной проверки, проведенной в соответствии с приказом комитета образования и науки Курской области от 03.12.2012 № 1/1-2566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. 1"/>
          <p:cNvSpPr/>
          <p:nvPr/>
        </p:nvSpPr>
        <p:spPr>
          <a:xfrm>
            <a:off x="1079640" y="614880"/>
            <a:ext cx="72151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Макаров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«Макаровская средняя общеобразовательная школа» (отчет от 24.06.2013 № 50) об исполнении предписания комитета образования и науки Курской области от 30.01.2013 № 16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9.01.2013 № 1/1-04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 Якубович</dc:creator>
  <dc:description/>
  <dc:language>en-US</dc:language>
  <cp:lastModifiedBy>Sapronova</cp:lastModifiedBy>
  <dcterms:modified xsi:type="dcterms:W3CDTF">2013-07-01T07:32:16Z</dcterms:modified>
  <cp:revision>37</cp:revision>
  <dc:subject/>
  <dc:title>Презентация PowerPoint</dc:title>
</cp:coreProperties>
</file>