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E1FF8-1CF6-45EB-9596-38D3A88352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BD272-CFD5-4E83-8CE8-68AFD574CA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D62F0-F138-49ED-A8E7-A27F3F4EC9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3690C-11E4-4BA6-A30D-68651BD0F5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988C5-1A1C-48EC-BAEC-3DEFA9FE3A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B449D-9160-4586-B776-735A1D39EA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9DCEF-A00E-4CF6-95BB-1783D2AAEC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559C1-B7BB-46AF-BD4C-3689ED9121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1230A-2875-4D4A-9066-4E8610A1CF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2505F-4E3C-4779-984E-1A50D320C0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37031-0C3B-4383-A432-98DAD21C5A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.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7EB83-CA15-4888-9502-EFDAE3EB5F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0F628-01EE-4C24-8816-B6046D18EE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221E-4C9D-4645-85C7-FF86A5F0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EB230-B0D5-46A0-AADF-49EB315C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ED876-DBC0-4C36-A924-4510AA1596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ECD6-5F20-4901-A003-00B622D7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0304F-6A3E-49C0-ABB8-D48860D4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2B8EC-35C7-4010-8C27-3023F199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6378D-0D0B-4E10-B8D0-E0B814F6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7B4C-0E48-41EB-9E28-BAA61DDE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9A542-9932-430C-A0B2-BDD99E3D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D0C7E-967F-43DF-A9C7-A1D40C59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9280F-AD83-4FB6-B20C-D4A02D40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Автофигура 1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5c01"/>
              </a:gs>
              <a:gs pos="100000">
                <a:srgbClr val="feb6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Группа 2"/>
          <p:cNvGrpSpPr/>
          <p:nvPr/>
        </p:nvGrpSpPr>
        <p:grpSpPr>
          <a:xfrm>
            <a:off x="210960" y="1679400"/>
            <a:ext cx="8722080" cy="1328760"/>
            <a:chOff x="210960" y="1679400"/>
            <a:chExt cx="8722080" cy="1328760"/>
          </a:xfrm>
        </p:grpSpPr>
        <p:sp>
          <p:nvSpPr>
            <p:cNvPr id="2" name="Полилиния 3"/>
            <p:cNvSpPr/>
            <p:nvPr/>
          </p:nvSpPr>
          <p:spPr>
            <a:xfrm>
              <a:off x="6046920" y="1824120"/>
              <a:ext cx="2874960" cy="712800"/>
            </a:xfrm>
            <a:prstGeom prst="pie">
              <a:avLst/>
            </a:prstGeom>
            <a:solidFill>
              <a:srgbClr val="fff3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Полилиния 4"/>
            <p:cNvSpPr/>
            <p:nvPr/>
          </p:nvSpPr>
          <p:spPr>
            <a:xfrm>
              <a:off x="2619360" y="1697040"/>
              <a:ext cx="5541840" cy="847800"/>
            </a:xfrm>
            <a:prstGeom prst="pie">
              <a:avLst/>
            </a:prstGeom>
            <a:solidFill>
              <a:srgbClr val="fff3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олилиния 5"/>
            <p:cNvSpPr/>
            <p:nvPr/>
          </p:nvSpPr>
          <p:spPr>
            <a:xfrm>
              <a:off x="2828880" y="1708200"/>
              <a:ext cx="5465880" cy="772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олилиния 6"/>
            <p:cNvSpPr/>
            <p:nvPr/>
          </p:nvSpPr>
          <p:spPr>
            <a:xfrm>
              <a:off x="5608800" y="1695600"/>
              <a:ext cx="3306600" cy="649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Полилиния 7"/>
            <p:cNvSpPr/>
            <p:nvPr/>
          </p:nvSpPr>
          <p:spPr>
            <a:xfrm>
              <a:off x="210960" y="1679400"/>
              <a:ext cx="8722080" cy="1328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Автофигура 8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5c01"/>
              </a:gs>
              <a:gs pos="100000">
                <a:srgbClr val="feb6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Группа 9"/>
          <p:cNvGrpSpPr/>
          <p:nvPr/>
        </p:nvGrpSpPr>
        <p:grpSpPr>
          <a:xfrm>
            <a:off x="210960" y="714240"/>
            <a:ext cx="8722080" cy="1328760"/>
            <a:chOff x="210960" y="714240"/>
            <a:chExt cx="8722080" cy="1328760"/>
          </a:xfrm>
        </p:grpSpPr>
        <p:sp>
          <p:nvSpPr>
            <p:cNvPr id="9" name="Полилиния 10"/>
            <p:cNvSpPr/>
            <p:nvPr/>
          </p:nvSpPr>
          <p:spPr>
            <a:xfrm>
              <a:off x="6046920" y="858960"/>
              <a:ext cx="2874960" cy="712800"/>
            </a:xfrm>
            <a:prstGeom prst="pie">
              <a:avLst/>
            </a:prstGeom>
            <a:solidFill>
              <a:srgbClr val="fff3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Полилиния 11"/>
            <p:cNvSpPr/>
            <p:nvPr/>
          </p:nvSpPr>
          <p:spPr>
            <a:xfrm>
              <a:off x="2619360" y="731880"/>
              <a:ext cx="5541840" cy="847800"/>
            </a:xfrm>
            <a:prstGeom prst="pie">
              <a:avLst/>
            </a:prstGeom>
            <a:solidFill>
              <a:srgbClr val="fff3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Полилиния 12"/>
            <p:cNvSpPr/>
            <p:nvPr/>
          </p:nvSpPr>
          <p:spPr>
            <a:xfrm>
              <a:off x="2828880" y="743040"/>
              <a:ext cx="5465880" cy="772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Полилиния 13"/>
            <p:cNvSpPr/>
            <p:nvPr/>
          </p:nvSpPr>
          <p:spPr>
            <a:xfrm>
              <a:off x="5608800" y="730080"/>
              <a:ext cx="3306600" cy="6494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Полилиния 14"/>
            <p:cNvSpPr/>
            <p:nvPr/>
          </p:nvSpPr>
          <p:spPr>
            <a:xfrm>
              <a:off x="210960" y="714240"/>
              <a:ext cx="8722080" cy="1328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4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11.3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Поле 16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ldNum" idx="2"/>
          </p:nvPr>
        </p:nvSpPr>
        <p:spPr>
          <a:xfrm>
            <a:off x="3990960" y="6249960"/>
            <a:ext cx="1160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40F8B8-5550-4274-AF5F-165635AA09BF}" type="slidenum">
              <a:rPr b="0" lang="ru-RU" sz="18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.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. 2"/>
          <p:cNvSpPr/>
          <p:nvPr/>
        </p:nvSpPr>
        <p:spPr>
          <a:xfrm>
            <a:off x="1106640" y="955080"/>
            <a:ext cx="721656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документарной проверки в отношении МКОУ «Любимовская средняя общеобразовательная школ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Любимовская средняя общеобразовательная школа» (отчет от 01.04.2013 № 23) об исполнении предпис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от 25.10.2012 № 107а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8.08.2012 № 1/1-2245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. 1"/>
          <p:cNvSpPr/>
          <p:nvPr/>
        </p:nvSpPr>
        <p:spPr>
          <a:xfrm>
            <a:off x="1058760" y="1056600"/>
            <a:ext cx="721512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выездной проверки в отношении МБДОУ «ДОУ № 1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ОУ № 1» (отчет от 25.04.2013 № 32) об исполнении предпис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от 15.11.2012 № 120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1.08.2012 № 1/1-2337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. 1"/>
          <p:cNvSpPr/>
          <p:nvPr/>
        </p:nvSpPr>
        <p:spPr>
          <a:xfrm>
            <a:off x="1079640" y="713520"/>
            <a:ext cx="72151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документарной проверки в отношении МБДОУ «Детский сад комбинированного вида № 110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комбинированного вида № 110» (отчет от 30.04.2013 № 33) об исполнении предписания комитета образования и науки Курской области от 04.12.2012 № 121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4.10.2012 № 1/1-2342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.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. 2"/>
          <p:cNvSpPr/>
          <p:nvPr/>
        </p:nvSpPr>
        <p:spPr>
          <a:xfrm>
            <a:off x="1050840" y="700200"/>
            <a:ext cx="721512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выездной проверки в отношении Автономной некоммерческой организации негосударственного среднего специального учебного заведения «Региональный открытый социальный техникум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номной некоммерческой организации негосударственного среднего специального учебного заведения «Региональный открытый социальный техникум» (отчет от 02.04.2013 № 24) об исполнении предпис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от 22.10.2012 № 107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7.07.2012 № 1/1-2176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.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. 2"/>
          <p:cNvSpPr/>
          <p:nvPr/>
        </p:nvSpPr>
        <p:spPr>
          <a:xfrm>
            <a:off x="1106640" y="535320"/>
            <a:ext cx="721512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выездной проверки в отношении Областного бюджетного образовательного учреждения дополнительного образования детей «Специализированная детско-юношеская спортивная школа олимпийского резерва «Динамо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ного бюджетного образовательного учреждения дополнительного образования дете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ециализированная детско-юношеская спортивная школа олимпийского резерва «Динамо» г. Курска (отчет от 08.04.2013 № 25) об исполнении предпис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от 31.10.2012 № 108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7.09.2012 № 1/1-2279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.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. 2"/>
          <p:cNvSpPr/>
          <p:nvPr/>
        </p:nvSpPr>
        <p:spPr>
          <a:xfrm>
            <a:off x="685800" y="840960"/>
            <a:ext cx="811548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выездной проверки в отношении МКОУ «Снижанская средняя общеобразовательная школ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Снижанская средняя общеобразовательная школа» (отчет от 08.04.2013 № 26) об исполнении предпис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от 24.12.2012 № 126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5.11.2012 № 1/1-2519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.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. 2"/>
          <p:cNvSpPr/>
          <p:nvPr/>
        </p:nvSpPr>
        <p:spPr>
          <a:xfrm>
            <a:off x="1135080" y="871920"/>
            <a:ext cx="721692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документарной проверки в отношении МКОУ «Маховоколодезская средняя общеобразовательная школ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Маховоколодезская средняя общеобразовательная школа» (отчет от 12.04.2013 № 27) об исполнении предпис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от 02.11.2012 № 113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3.09.2012 № 1/1-2253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.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. 2"/>
          <p:cNvSpPr/>
          <p:nvPr/>
        </p:nvSpPr>
        <p:spPr>
          <a:xfrm>
            <a:off x="1079640" y="701640"/>
            <a:ext cx="721512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документарной проверки в отношении Льговского филиала Автономной некоммерческой организации негосударственного среднего специального учебного заведения «Региональный открытый социальный техникум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говского филиала Автономной некоммерческой организации негосударственного среднего специального учебного заведения «Региональный открытый социальный техникум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чет от 12.04.2013 № 28) об исполнении предпис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от 05.11.2012 № 114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3.08.2012 № 1/1-2184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.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. 2"/>
          <p:cNvSpPr/>
          <p:nvPr/>
        </p:nvSpPr>
        <p:spPr>
          <a:xfrm>
            <a:off x="1138320" y="784440"/>
            <a:ext cx="721512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выездной проверки в отношении МБДОУ «Детский сад № 3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№ 3» (отчет от 19.04.2013 № 29) об исполнении предпис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от 15.11.2012 № 119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8.09.2012 № 1/1-2307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. 1"/>
          <p:cNvSpPr/>
          <p:nvPr/>
        </p:nvSpPr>
        <p:spPr>
          <a:xfrm>
            <a:off x="1079640" y="727560"/>
            <a:ext cx="721512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выездной проверки в отношении МДБОУ «Пригородный детский сад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БОУ «Пригородный детский сад» (отчет от 25.04.2013 № 30) об исполнении предпис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от 14.11.2012 № 117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8.09.2012 № 1/1-2311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. 1"/>
          <p:cNvSpPr/>
          <p:nvPr/>
        </p:nvSpPr>
        <p:spPr>
          <a:xfrm>
            <a:off x="1079640" y="742320"/>
            <a:ext cx="721512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документарной проверки в отношении МДБОУ «Зоринский детский сад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БОУ «Зоринский детский сад» (отчет от 25.04.2013 № 31) об исполнении предпис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от 06.12.2012 № 123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6.10.2012 № 1/1-2432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н Якубович</dc:creator>
  <dc:description/>
  <dc:language>en-US</dc:language>
  <cp:lastModifiedBy>Sapronova</cp:lastModifiedBy>
  <dcterms:modified xsi:type="dcterms:W3CDTF">2013-05-08T11:47:38Z</dcterms:modified>
  <cp:revision>26</cp:revision>
  <dc:subject/>
  <dc:title>Презентация PowerPoint</dc:title>
</cp:coreProperties>
</file>