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DAD4B-0D42-416F-B8E7-7E54EDB0F6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53141-8166-4D08-9138-658278D7C1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00D04-FEB4-473E-AE91-4B044623ED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560D2-9E44-4DFE-A8B5-B5AC12126F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37862-C15F-4995-9A09-187907C978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0A0E4-7B2A-4FD3-8959-C78E85621D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1E8EE-60CE-4E1B-8B22-878E82A8C3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9AF56-2A52-4EBA-9444-A108BD4332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94C21-B4F5-4100-9D0E-A334954169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ED984-0C0A-40FF-B2BE-05FF85D569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5535C-0F80-4F61-A225-C440E3A24E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5B8AE-6666-473C-A11E-3F9FB43D1E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60AB5-022F-44E3-A6B0-28DFF4FD19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EC0A-F22B-4114-B87C-5D10F7D21A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113B-A2DF-4A25-9830-FB2D4073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9231-153E-481A-B09E-04756847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0DE9-3CD2-42EE-B3B7-78A5EAF04B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C6AE-8F18-4743-83BB-D9A056D0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2D23-E629-4765-AE48-AEE30520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0892-B561-427E-8CC7-6EACAEE8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32F6B-3D75-4678-BA88-8AD694D6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6840" y="218880"/>
            <a:ext cx="8224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50BC7-11A4-42AC-A54F-C958503F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6975-50F6-4D9B-9ABE-89D0B966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980DB-525B-4A04-8C83-1B6D5924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B014B-FB0C-4CAE-B99E-528E19E0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b687"/>
              </a:gs>
              <a:gs pos="100000">
                <a:srgbClr val="e75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210960" y="1679400"/>
            <a:ext cx="8718840" cy="1325880"/>
            <a:chOff x="210960" y="1679400"/>
            <a:chExt cx="8718840" cy="1325880"/>
          </a:xfrm>
        </p:grpSpPr>
        <p:sp>
          <p:nvSpPr>
            <p:cNvPr id="2" name="Freeform 3"/>
            <p:cNvSpPr/>
            <p:nvPr/>
          </p:nvSpPr>
          <p:spPr>
            <a:xfrm>
              <a:off x="6046920" y="1824120"/>
              <a:ext cx="2871720" cy="709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2619360" y="1697040"/>
              <a:ext cx="5538960" cy="8445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828880" y="1708200"/>
              <a:ext cx="5462640" cy="7700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608800" y="1695600"/>
              <a:ext cx="3303360" cy="6458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10960" y="1679400"/>
              <a:ext cx="8718840" cy="13258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AutoShape 8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b687"/>
              </a:gs>
              <a:gs pos="100000">
                <a:srgbClr val="e75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0960" y="714240"/>
            <a:ext cx="8718840" cy="1325520"/>
            <a:chOff x="210960" y="714240"/>
            <a:chExt cx="8718840" cy="1325520"/>
          </a:xfrm>
        </p:grpSpPr>
        <p:sp>
          <p:nvSpPr>
            <p:cNvPr id="9" name="Freeform 10"/>
            <p:cNvSpPr/>
            <p:nvPr/>
          </p:nvSpPr>
          <p:spPr>
            <a:xfrm>
              <a:off x="6046920" y="858960"/>
              <a:ext cx="2871720" cy="709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2619360" y="731880"/>
              <a:ext cx="5538960" cy="8445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2828880" y="743040"/>
              <a:ext cx="5462640" cy="7696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5608800" y="730080"/>
              <a:ext cx="3303360" cy="646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210960" y="714240"/>
              <a:ext cx="8718840" cy="132552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164200" y="6249600"/>
            <a:ext cx="3781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3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2"/>
          </p:nvPr>
        </p:nvSpPr>
        <p:spPr>
          <a:xfrm>
            <a:off x="3990600" y="6249600"/>
            <a:ext cx="1157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19B6B-78FE-4046-AE04-B938CC09822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28600" y="995760"/>
            <a:ext cx="721692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Максимов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Максимовская средняя общеобразовательная школа» (отчет от 05.09.2013  № 80) об исполнении предписания комитета образования и науки Курской области от  29.03.2013 № 94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1.03.2013 № 1/1-161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50840" y="877320"/>
            <a:ext cx="721512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БОУ «Крупецкая 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Крупецкая средняя общеобразовательная школа» (отчет от 13.09.2013  № 81) об исполнении предписания комитета образования и науки Курской области от  19.03.2013 №  83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2.02.2013 № 1/1-124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6640" y="1095480"/>
            <a:ext cx="72151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БОУ «Средняя общеобразовательная школа № 5» города Курча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БОУ «Средняя общеобразовательная школа № 5» города Курчатова (отчет от 20.09.2013  № 82) об исполнении предписания комитета образования и науки Курской области от  18.06.2013 № 228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8.05.2013 № 1/1-385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5800" y="900360"/>
            <a:ext cx="811548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Субботинская средняя общеобразовательная школ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Субботинская средняя общеобразовательная школа» (отчет от 23.09.2013  № 83) об исполнении предписания комитета образования и науки Курской области от  07.06.2013 № 216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7.05.2013 № 1/1-347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35080" y="666720"/>
            <a:ext cx="72169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БОУ «Рыльская средняя общеобразовательная школа № 5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БОУ «Рыльская средняя общеобразовательная школа № 5» (отчет от 27.09.2013  № 84) об исполнении предписания комитета образования и науки Курской области от  28.03.2013 № 92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07.03.2013 № 1/1-155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76400" y="852120"/>
            <a:ext cx="721512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Игишевская 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Игишевская  средняя общеобразовательная школа» (отчет от 30.09.2013  № 85) об исполнении предписания комитета образования и науки Курской области от  01.04.2013 № 99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1.02.2013 № 1/1-111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 Якубович</dc:creator>
  <dc:description/>
  <dc:language>en-US</dc:language>
  <cp:lastModifiedBy>Sapronova</cp:lastModifiedBy>
  <dcterms:modified xsi:type="dcterms:W3CDTF">2013-10-09T06:45:32Z</dcterms:modified>
  <cp:revision>77</cp:revision>
  <dc:subject/>
  <dc:title>Презентация PowerPoint</dc:title>
</cp:coreProperties>
</file>