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328B8-0D9B-4E43-872B-B632243607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0E0AA-BF75-415A-8428-7135B65E75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6AD72-B9BD-4A38-AE83-FEB5427AD0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0517-E14B-4304-8B9E-BE860ABDEB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7DB89-5C2A-48F8-9C8E-30AE1003F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646B4-A4EA-46EC-8CF9-3ED4C94FDA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1B7E0-9841-4E4B-8337-FE5141BCB1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BC150-05D3-4168-8C3C-351F8EB85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9B7C1-AA08-4103-AC7A-316115EB1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EABA2-2AFF-4A90-B4E1-F153D7969A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59AB4-B765-4775-ABD1-A4FE65BFC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54053-5878-4372-B021-9499310A2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B8D3E-51F8-44A6-A4F2-5632A0A86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125CF-8634-402E-BB0D-B9DFE86B3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6E85D-80AD-43E8-A6B7-D3B653ADE9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B1A07-898C-4F37-B8F6-1F7EDB64E3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67EC6-BBC7-4521-9B40-D1595993D6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63CF3-D684-445A-A2A9-D917B10A4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2F4DE-9EA1-4578-875F-1AB560837D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8FEC7-5EB5-4B16-B98D-E114788AAC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7527-D877-43DF-8DC5-A40B14F9AD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089D6-6885-4740-B864-AB4004F33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9FB27-D34D-403D-9C54-698234AF74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F80C0-FDEA-43A7-A4EC-D38C8CD9B1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DF922-4742-46F4-A305-1859920DA6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98AA0-EE8B-4DF5-B345-59DAF19AD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CEBB8-2A00-49CF-976C-7000F929FF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D7C63-15EC-4227-AF42-F525987620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CE620-DBC2-4363-BD3A-A190E52EB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E293-2AD5-4C40-93E5-E58BBAF9F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9173-2A9E-4B33-9DD6-579997E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B9E8-3795-4003-8D8C-5E665B8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E1EE-388A-438A-9E79-D7FD65A86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78F1-7EEA-4659-8E4D-97C28235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C4A4-E942-4178-A069-7BD848B1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1D61-8F82-4194-BF32-99A28AC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24D8-3376-442F-A9FE-44CA9396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18880"/>
            <a:ext cx="82249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2BBF-A080-4D24-92ED-409834DB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E5FE-7725-45B7-A598-74153F8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1DF1-F6E8-4D02-8696-7D0363A3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AA82-F8AF-4B92-84BA-C9607B5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1679400"/>
            <a:ext cx="8718840" cy="1325880"/>
            <a:chOff x="210960" y="1679400"/>
            <a:chExt cx="8718840" cy="1325880"/>
          </a:xfrm>
        </p:grpSpPr>
        <p:sp>
          <p:nvSpPr>
            <p:cNvPr id="2" name="Freeform 3"/>
            <p:cNvSpPr/>
            <p:nvPr/>
          </p:nvSpPr>
          <p:spPr>
            <a:xfrm>
              <a:off x="6046920" y="182412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19360" y="169704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828880" y="1708200"/>
              <a:ext cx="5462640" cy="7700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608800" y="1695600"/>
              <a:ext cx="3303360" cy="6458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10960" y="1679400"/>
              <a:ext cx="8718840" cy="13258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AutoShape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687"/>
              </a:gs>
              <a:gs pos="100000">
                <a:srgbClr val="e75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0960" y="714240"/>
            <a:ext cx="8718840" cy="1325520"/>
            <a:chOff x="210960" y="714240"/>
            <a:chExt cx="8718840" cy="1325520"/>
          </a:xfrm>
        </p:grpSpPr>
        <p:sp>
          <p:nvSpPr>
            <p:cNvPr id="9" name="Freeform 10"/>
            <p:cNvSpPr/>
            <p:nvPr/>
          </p:nvSpPr>
          <p:spPr>
            <a:xfrm>
              <a:off x="6046920" y="858960"/>
              <a:ext cx="2871720" cy="709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2619360" y="731880"/>
              <a:ext cx="5538960" cy="844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828880" y="743040"/>
              <a:ext cx="5462640" cy="7696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608800" y="730080"/>
              <a:ext cx="3303360" cy="646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210960" y="714240"/>
              <a:ext cx="8718840" cy="1325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3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7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6504F-3086-4744-9FA4-349087872FA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4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6640" y="877320"/>
            <a:ext cx="721656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ОУ «Нижнереут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КОУ «Нижнереутская основная общеобразовательная школа» (отчет от 04.07.2013 № 55) об исполнении предписания комитета образования и науки Курской области от 05.03.2013 № 7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14.02.2013 № 1/1-81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38320" y="57924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Жигаевская средняя общеобразовательная школ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Жигаевская средняя общеобразовательная школа» (отчет от 24.07.2013  № 64) об исполнении предписания комитета образования и науки Курской области от 31.01.2013 № 17а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9.01.2013 № 1/1-05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38320" y="57924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ДОУ «Детский сад комбинированного вида № 95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ДОУ «Детский сад комбинированного вида № 95» (отчет от 25.07.2013  № 65) об исполнении предписания комитета образования и науки Курской области от 28.01.2013 № 10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9.01.2013 № 1/1-03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138320" y="121176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Нагольненская основная общеобразовательная школ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Нагольненская основная общеобразовательная школа» (отчет от 31.07.2013  № 66) об исполнении предписания комитета образования и науки Курской области от 08.02.2013 № 29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8.12.2012 № 1/1-2611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166760" y="79668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Нижнепесочен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Нижнепесоченская основная общеобразовательная школа» (отчет от 31.07.2013  № 67) об исполнении предписания комитета образования и науки Курской области от 08.05.2013 № 145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5.04.2013 № 1/1-246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138320" y="57924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БОУ «Солнечн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БОУ «Солнечная средняя общеобразовательная школа» (отчет от 31.07.2013  № 68) об исполнении предписания комитета образования и науки Курской области от 01.02.2013 № 20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4.01.2013 № 1/1-09, и сообщает о снятии с контроля указанного предпи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50840" y="87732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БДОУ «Детский сад № 3 «Соловушка» г. Рыль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БДОУ «Детский сад № 3 «Соловушка» г. Рыльска (отчет от 11.07.2013 № 56) об исполнении предписания комитета образования и науки Курской области от 29.04.2013 № 134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08.04.2013 № 1/1-233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6640" y="96804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ДОУ Поныровский детский сад «Ромаш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КДОУ Поныровский детский сад «Ромашка» (отчет от 11.07.2013 № 57) об исполнении предписания комитета образования и науки Курской области от 01.04.2013 № 97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21.02.2013 № 1/1-114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72920"/>
            <a:ext cx="81154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ДОУ Детский сад «Солнышко» Советского района Ку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КДОУ Детский сад «Солнышко» Советского района Курской области (отчет от 15.07.2013 № 58) об исполнении предписания комитета образования и науки Курской области от 01.04.2013 № 98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21.02.2013 № 1/1-112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35080" y="803880"/>
            <a:ext cx="721692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ОУ «СОШ № 2 пос. Пристен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КОУ «СОШ № 2 пос. Пристень» (отчет от 17.07.2013 № 59) об исполнении предписания комитета образования и науки Курской области от 04.02.2013 № 27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15.01.2013 № 1/1-19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6400" y="1116720"/>
            <a:ext cx="721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БОУ «Лицей № 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БОУ «Лицей № 3» (отчет от 18.07.2013 № 60) об исполнении предписания комитета образования и науки Курской области от 15.02.2013 № 4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29.01.2013 № 1/1-45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38320" y="106704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ОУ «Сазановская средняя общеобразовательная школ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КОУ «Сазановская средняя общеобразовательная школа» (отчет от 19.07.2013 № 61) об исполнении предписания комитета образования и науки Курской области от 08.05.2013 № 147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т 15.04.2013 № 1/1-247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38320" y="938520"/>
            <a:ext cx="721512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Гремячен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Гремяченская средняя общеобразовательная школа» (отчет от 24.07.2013  № 62) об исполнении предписания комитета образования и науки Курской области от 25.01.2013 № 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9.12.2012 № 1/1-2615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38320" y="579240"/>
            <a:ext cx="72151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Прилепская основна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омитет образования и науки Курской области рассмотрел отчет  МКОУ «Прилепская основная общеобразовательная школа» (отчет от 24.07.2013  № 63) об исполнении предписания комитета образования и науки Курской области от 01.02.2013 № 25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5.01.2013 № 1/1-20, и сообщает о снятии с контроля указанного предпис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08-30T06:10:35Z</dcterms:modified>
  <cp:revision>54</cp:revision>
  <dc:subject/>
  <dc:title>Презентация PowerPoint</dc:title>
</cp:coreProperties>
</file>