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4BB33-6F1A-4D9C-BC11-821514B5F3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8F99F-2C96-4B4B-8C87-D2CCED08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465E-FBAC-4D5A-9954-B96D045D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94FF0-E434-433B-8914-7E2A2FCFA3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44245-A8A7-49A4-9238-B314F089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4D001-A622-4349-9204-7C938F51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C2E2-8103-4808-800E-0363662F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498D-14E9-4472-9E3C-0BEF30B0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4181-206F-43E1-8833-A02C39F1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3580-2634-434B-9097-61563CA4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12211-4175-4377-B127-651CEC0A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11E61-BC38-4041-A4F3-7C4F7DAC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5c01"/>
              </a:gs>
              <a:gs pos="100000">
                <a:srgbClr val="feb6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10960" y="1679400"/>
            <a:ext cx="8722080" cy="1328760"/>
            <a:chOff x="210960" y="1679400"/>
            <a:chExt cx="8722080" cy="1328760"/>
          </a:xfrm>
        </p:grpSpPr>
        <p:sp>
          <p:nvSpPr>
            <p:cNvPr id="2" name=""/>
            <p:cNvSpPr/>
            <p:nvPr/>
          </p:nvSpPr>
          <p:spPr>
            <a:xfrm>
              <a:off x="6046920" y="1824120"/>
              <a:ext cx="2874960" cy="7128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619360" y="1697040"/>
              <a:ext cx="5541840" cy="8478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828880" y="1708200"/>
              <a:ext cx="5465880" cy="7729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08800" y="1695600"/>
              <a:ext cx="3306600" cy="6490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10960" y="1679400"/>
              <a:ext cx="8722080" cy="13287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5c01"/>
              </a:gs>
              <a:gs pos="100000">
                <a:srgbClr val="feb6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10960" y="714240"/>
            <a:ext cx="8722080" cy="1328760"/>
            <a:chOff x="210960" y="714240"/>
            <a:chExt cx="8722080" cy="1328760"/>
          </a:xfrm>
        </p:grpSpPr>
        <p:sp>
          <p:nvSpPr>
            <p:cNvPr id="9" name=""/>
            <p:cNvSpPr/>
            <p:nvPr/>
          </p:nvSpPr>
          <p:spPr>
            <a:xfrm>
              <a:off x="6046920" y="858960"/>
              <a:ext cx="2874960" cy="7128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619360" y="731880"/>
              <a:ext cx="5541840" cy="8478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828880" y="743040"/>
              <a:ext cx="5465880" cy="7729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608800" y="730080"/>
              <a:ext cx="3306600" cy="6494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10960" y="714240"/>
              <a:ext cx="8722080" cy="13287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4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rPr>
              <a:t>11.3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ldNum" idx="2"/>
          </p:nvPr>
        </p:nvSpPr>
        <p:spPr>
          <a:xfrm>
            <a:off x="3990960" y="6249960"/>
            <a:ext cx="1160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6FC7C04-F2DB-4F99-BB37-80D341F4B3C9}" type="slidenum">
              <a: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79640" y="585720"/>
            <a:ext cx="72151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КОУ ДОД ДДЮТ и 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митет образования и науки Курской области рассмотрел отчет МКОУ ДОД ДДЮТ и Э (информация от 07. 02. 2013  № 4) об исполнении предписания комитета образования и науки Курской области от 07. 08. 2012 № 90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07. 06. 2012 № 1/1-1911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79640" y="982800"/>
            <a:ext cx="721512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 исполнении предписания комитета образования и науки Курской области по устранению нарушений, выявленных в ходе внеплановой документарной проверки в отношении НДО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етский сад № 6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А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оссийские железные дорог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митет образования и науки Курской области рассмотрел отчет НДО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етский сад № 6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А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оссийские железные дорог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(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нформация от 18. 02. 2013  № 5) об исполнении предписания комитета образования и науки Курской области от 18. 05. 2012 № 42 по устранению нарушений, выявленных в ходе внеплановой документарной проверки, проведенной в соответствии с приказом комитета образования и науки Курской области от 22. 11. 2012 № 1/1-2538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5240" y="217440"/>
            <a:ext cx="7215120" cy="62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униципального казенного дошкольного образовательного учреждения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7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Большесолдатский детский сад общеразвивающего вида с приоритетным осуществлением деятельности по познавательно-речевому развитию детей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ru-RU" sz="17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Большесолдатского района Курской обла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митет образования и науки Курской области рассмотрел отчет муниципального казенного дошкольного образовательного учрежде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Большесолдатский детский сад общеразвивающего вида с приоритетным осуществлением деятельности по познавательно-речевому развитию дет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Большесолдатского района Курской области (информация от 20. 02. 2013  № 6) об исполнении предписания комитета образования и науки Курской области от 12. 09. 2012 № 95</a:t>
            </a:r>
            <a:r>
              <a:rPr b="0" lang="ru-RU" sz="1800" spc="-1" strike="noStrike">
                <a:solidFill>
                  <a:srgbClr val="ff0000"/>
                </a:solidFill>
                <a:latin typeface="Times New Roman CYR"/>
                <a:ea typeface="Times New Roman CYR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20. 07. 2012 № 1/1-2146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977040"/>
            <a:ext cx="8115120" cy="41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КВ(С)О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ечерняя (сменная) общеобразовательная школа г. Дмитрие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митет образования и науки Курской области рассмотрел отчет МКВ(С)О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ечерняя (сменная) общеобразовательная школа г. Дмитрие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(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нформация от 20. 02. 2013  № 7) об исполнении предписания комитета образования и науки Курской области от 12. 09. 2012 № 94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20. 07. 2012 № 1/1-2144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79640" y="598320"/>
            <a:ext cx="72151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ОКО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Школа-интернат № 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г. Ку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митет образования и науки Курской области рассмотрел отчет ОКО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Школа-интернат №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г. Курска (информация от 27. 02. 2013  № 8) об исполнении предписания комитета образования и науки Курской области от 14. 09. 2012 № 96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07. 08. 2012 № 1/1-2193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598320"/>
            <a:ext cx="72151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О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Генеральшинская средняя общеобразовательная школ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митет образования и науки Курской области рассмотрел отчет МКО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Генеральшинская средняя общеобразовательная школ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(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нформация от 27. 02. 2013  № 9) об исполнении предписания комитета образования и науки Курской области от 28. 09. 2012 № 104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05. 09. 2012 № 1/1-2258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86000" y="182736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79640" y="598320"/>
            <a:ext cx="72151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МКДО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етский сад № 7 п. Первоавгустовски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митет образования и науки Курской области рассмотрел отчет МКДО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етский сад № 7 п. Первоавгустовск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(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нформация от 28. 02. 2013  № 10) об исполнении предписания комитета образования и науки Курской области от 03. 10. 2012 № 105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03. 08. 2012 № 1/1-2183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79640" y="609120"/>
            <a:ext cx="7215120" cy="52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Управления образования администрации города Железногорск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митет образования и науки Курской области рассмотрел отчет Управления образования администрации города Железногорска Курской области (информация от 28. 02. 2013  № 11) об исполнении предписания комитета образования и науки Курской области от 19. 09. 2012 № 98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14. 08. 2012 № 1/1-2205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03-07T07:58:06Z</dcterms:modified>
  <cp:revision>21</cp:revision>
  <dc:subject/>
  <dc:title/>
</cp:coreProperties>
</file>